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D3C0-A34F-4B3C-BCE9-63988245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9E54-9088-4ACD-9151-F9D4968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11D9-0223-47BD-A660-DB936C04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E3D6-1CC9-4C3B-AD15-D874F8BE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BEAC-724A-4E59-877A-E9E9E818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5FF-4F37-42E6-B997-9B6BEEC4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FEFC-A88B-49E6-89E7-FE7194D7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24D8-6782-4A18-AFD6-5B770834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BDE9-2FF3-43D5-A11A-290D4D8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3B43-46AE-4D60-B0FA-625DA747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C75C-FD8C-4EC7-8022-9047193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E9AC-8CC7-4CBE-81B4-475A618A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9458-5E32-493A-ABE8-ABEF5A72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7A9A-983B-4A46-BF81-013096F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E496-D9D0-4895-953C-8427399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7464-7A72-4C41-A987-78717956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05FC-53F4-45BB-8C22-0D10E5ED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507A-A1F2-4B85-AB08-8664FA4C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19FB-8A05-4858-AD57-4645ABA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68C4-E9AA-4854-BBEB-958FF892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BBE5-A4A1-48DF-9961-DE7440BC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E9CC-2FF0-44A9-AE12-8F96611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7828-7F42-4F95-B094-D9FBC942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9982-2458-4237-83CD-1DEF89A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61FC-E9F8-42D8-9124-E441713A1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1893-7643-4B96-9E40-3470C6C8D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e6"/>
                </a:solidFill>
                <a:latin typeface="Arial"/>
              </a:rPr>
              <a:t>Me llamo __________ Clase 6 NH</a:t>
            </a:r>
            <a:br>
              <a:rPr sz="4000"/>
            </a:br>
            <a:r>
              <a:rPr b="0" lang="en-US" sz="4000" spc="-1" strike="noStrike">
                <a:solidFill>
                  <a:srgbClr val="cccce6"/>
                </a:solidFill>
                <a:latin typeface="Arial"/>
              </a:rPr>
              <a:t>La fecha es el 9 de febrero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Propósito # 4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prueba del Repaso 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con la forma correcta del ver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________ en la calle 80. (viv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 ________ ensalada. 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uisa ________ la tarea rápido. (termi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ladys y yo _________ los problemas. (ent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los libros a la mesa. (sub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 las plumas en la papelería. (compr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371600"/>
          <a:ext cx="8610480" cy="5467320"/>
        </p:xfrm>
        <a:graphic>
          <a:graphicData uri="http://schemas.openxmlformats.org/drawingml/2006/table">
            <a:tbl>
              <a:tblPr/>
              <a:tblGrid>
                <a:gridCol w="2362320"/>
                <a:gridCol w="1942920"/>
                <a:gridCol w="2152800"/>
                <a:gridCol w="215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om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cu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E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D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p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las oraciones con la forma correcta del verb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______ a la casa de Rosa. (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ardo y yo le _________ un regalo. (d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 estudiando para la prueba. (es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lumnos ______ a un paseo. (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no _________ problemas en casa.(d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 muy nervioso hoy. (es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paso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areja la palabra interrogativa con su significado en i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a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85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.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g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dónde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qué nacionalidad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n qué escuela estud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es tu curso favor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hora lleg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v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n qué clase estas a las 2 de las tard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 on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i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roposito 39,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 verb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roposito 41, 42, 4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Words: Palabras Interrogativ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roposito 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, Dar, Estar verb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roposito 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20:59:16Z</dcterms:created>
  <dc:creator>Helen Zumaeta</dc:creator>
  <dc:description/>
  <dc:language>en-US</dc:language>
  <cp:lastModifiedBy>Helen Zumaeta</cp:lastModifiedBy>
  <dcterms:modified xsi:type="dcterms:W3CDTF">2012-03-09T17:04:21Z</dcterms:modified>
  <cp:revision>5</cp:revision>
  <dc:subject/>
  <dc:title>Me llamo __________ Clase 6 NH La fecha es el 9 de febrero del 2012</dc:title>
</cp:coreProperties>
</file>